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5B1-149B-42BE-9FEB-35DDF004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05F-B404-4D4A-B277-DBAAB524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CFB-639B-4B57-94BE-9A1A581E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2A7A-D57E-42C4-97BC-B60373E0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649-68C8-4B02-BCEA-28041EC6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44E2-743E-41A1-8A1C-3F2F73E6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E6C7-3076-4599-B76D-19393710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D9B-D90D-4DE1-8F7F-69D22791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8084-C8EE-4BFA-A073-1BF9DEA9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01A-E780-4B65-9220-5DEFB12D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5E35-6DD0-4AE0-AB2B-61D34128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335-F018-4375-8ED9-3DD42AF8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D4D2-BBE6-4965-93CD-20177E2B7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M&#257;ori_people" TargetMode="External"/><Relationship Id="rId3" Type="http://schemas.openxmlformats.org/officeDocument/2006/relationships/hyperlink" Target="http://en.wikipedia.org/wiki/New_Zealand" TargetMode="External"/><Relationship Id="rId4" Type="http://schemas.openxmlformats.org/officeDocument/2006/relationships/hyperlink" Target="http://en.wikipedia.org/wiki/Polynesians" TargetMode="External"/><Relationship Id="rId5" Type="http://schemas.openxmlformats.org/officeDocument/2006/relationships/hyperlink" Target="http://en.wikipedia.org/wiki/Culture_of_New_Zealand" TargetMode="External"/><Relationship Id="rId6" Type="http://schemas.openxmlformats.org/officeDocument/2006/relationships/hyperlink" Target="http://en.wikipedia.org/wiki/M&#257;ori_language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99"/>
                </a:solidFill>
                <a:latin typeface="Impact"/>
              </a:rPr>
              <a:t>Maori ho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Building Maori ho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For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By Alex W and Zoish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"/>
              </a:rPr>
              <a:t>Marae ph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"/>
              </a:rPr>
              <a:t>This is a picture of a Marae and a Maori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4326120" cy="2571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3229200" cy="241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"/>
              </a:rPr>
              <a:t>Inform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NZ" sz="2800" spc="-1" strike="noStrike">
                          <a:solidFill>
                            <a:srgbClr val="006600"/>
                          </a:solidFill>
                          <a:latin typeface="comic"/>
                        </a:rPr>
                        <a:t>The Whare Puni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6600"/>
                          </a:solidFill>
                          <a:latin typeface="comic"/>
                        </a:rPr>
                        <a:t>The Whare Puni, or sleeping house, was a rectangular building with sunken floors and walls about 4 feet ( 1.2 meters ) high. Doors and windows</a:t>
                      </a:r>
                      <a:r>
                        <a:rPr b="1" lang="en-NZ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comic"/>
              </a:rPr>
              <a:t>Look at these pictures and there information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4648320" y="1600200"/>
          <a:ext cx="4038480" cy="22860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2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0000"/>
                          </a:solidFill>
                          <a:latin typeface="comic"/>
                        </a:rPr>
                        <a:t>Throughout history, the Maori population has been concentrated in the North Island.</a:t>
                      </a:r>
                      <a:r>
                        <a:rPr b="1" lang="en-NZ" sz="3200" spc="-1" strike="noStrike">
                          <a:solidFill>
                            <a:srgbClr val="ff0000"/>
                          </a:solidFill>
                          <a:latin typeface="comic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57200" y="3938760"/>
          <a:ext cx="4038480" cy="2187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cc"/>
                          </a:solidFill>
                          <a:latin typeface="comic"/>
                        </a:rPr>
                        <a:t>In 1996 87.5 percent of the Maori population lived in the North Islan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68360" y="1563840"/>
            <a:ext cx="4032360" cy="2225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643280" y="3933720"/>
            <a:ext cx="4105440" cy="22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ff"/>
                </a:solidFill>
                <a:latin typeface="Impact"/>
              </a:rPr>
              <a:t>More Inform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9640" y="1600200"/>
          <a:ext cx="8147160" cy="4525920"/>
        </p:xfrm>
        <a:graphic>
          <a:graphicData uri="http://schemas.openxmlformats.org/drawingml/2006/table">
            <a:tbl>
              <a:tblPr/>
              <a:tblGrid>
                <a:gridCol w="814716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Māori cultur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 is the culture of the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comic"/>
                          <a:hlinkClick r:id="rId2"/>
                        </a:rPr>
                        <a:t>Māori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 of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comic"/>
                          <a:hlinkClick r:id="rId3"/>
                        </a:rPr>
                        <a:t>New Zeala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 (an Eastern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comic"/>
                          <a:hlinkClick r:id="rId4"/>
                        </a:rPr>
                        <a:t>Polynesian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 people) and forms a distinctive part of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comic"/>
                          <a:hlinkClick r:id="rId5"/>
                        </a:rPr>
                        <a:t>New Zealand cultur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. The culture has passed through three distinct but over lapping eras to reach it present modern form. Within the Māori community, and to a lesser extent throughout New Zealand as a whole, the word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Māoritanga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 is often used as an approximate synonym for Māori culture, the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comic"/>
                          <a:hlinkClick r:id="rId6"/>
                        </a:rPr>
                        <a:t>Māori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 suffix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-tanga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 being roughly equivalent to the qualitative noun ending "-ness" in English.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"/>
              </a:rPr>
              <a:t>END OF 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"/>
              </a:rPr>
              <a:t>This is the end of our power point thank you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6T02:25:57Z</dcterms:created>
  <dc:creator>5d06</dc:creator>
  <dc:description/>
  <dc:language>en-US</dc:language>
  <cp:lastModifiedBy>5d16</cp:lastModifiedBy>
  <dcterms:modified xsi:type="dcterms:W3CDTF">2013-06-17T03:03:48Z</dcterms:modified>
  <cp:revision>10</cp:revision>
  <dc:subject/>
  <dc:title>Maori houses</dc:title>
</cp:coreProperties>
</file>